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6E3-FB50-40B1-9F96-209A2294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A42-4957-421E-A9BB-6223F4BF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D0C2-CE22-400E-8110-A082FC43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3F2B-B19F-41B4-9FA3-3CB191E7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506-31EB-42B2-B0B2-4DDB6885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A052-DFB1-4697-8C44-F35C7780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7EEC-FB6A-411B-8D60-A9BD81DB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EB8-6D0C-4856-B134-F5B4F6E1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DBA-B5DB-4EAE-9926-88C6AEBC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0E3-47D2-4FCC-803B-6B8C7227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924B-FE13-4464-A597-A23A7A6A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A01-2530-4880-9E5B-1E194717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5472B-E1C7-4F9B-B4DD-B9EC958C6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rsing entropy for fun and profit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even/Fulc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33960" y="6035760"/>
            <a:ext cx="38401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7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*Profit not guarante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s &amp; example code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fulcrum-demo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from old diskmag interview : run a demo in reverse (Dyslexia / Threesome, NAID 19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endscroller running backwards, disappearing shadebobs etc towards ti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hought: impossible with 'modern'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/Water/Blur need previous frame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't fake: full precalc needs infinite memory, random frame attempts needs infinite CPU p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's th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is imposs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opy: information i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put frames can have same res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.e. fire effect: everything goes to black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from black screen: what was the inp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78160" y="4389480"/>
            <a:ext cx="105552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06560" y="4389480"/>
            <a:ext cx="1062000" cy="1062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749760" y="4389480"/>
            <a:ext cx="1062000" cy="106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121360" y="484668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53200" y="4389480"/>
            <a:ext cx="1062000" cy="1025640"/>
          </a:xfrm>
          <a:prstGeom prst="roundRect">
            <a:avLst>
              <a:gd name="adj" fmla="val 153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's think some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e know the intro/demo scrip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which info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each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new info gets combined with previous frames info in non-reversible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isn't kept around for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 effect: flames from stuff drawn 5 seconds ago, not 1 minute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35760" y="6670800"/>
            <a:ext cx="374976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Not always 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effect loses info at predictabl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info added now is lost after X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 5 seconds, 60 FPS: X = 300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frame N: start at black screen, time N–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info for frame N-X and apply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X , loop while X 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only 2 fullscreen textures, 300 x CPU/GPU pow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5029200"/>
            <a:ext cx="639720" cy="457200"/>
          </a:xfrm>
          <a:prstGeom prst="roundRect">
            <a:avLst>
              <a:gd name="adj" fmla="val 347"/>
            </a:avLst>
          </a:prstGeom>
          <a:solidFill>
            <a:srgbClr val="cfe7f5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82920" y="5029200"/>
            <a:ext cx="639720" cy="457200"/>
          </a:xfrm>
          <a:prstGeom prst="roundRect">
            <a:avLst>
              <a:gd name="adj" fmla="val 347"/>
            </a:avLst>
          </a:prstGeom>
          <a:solidFill>
            <a:srgbClr val="ff9966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03480" y="5029200"/>
            <a:ext cx="639720" cy="457200"/>
          </a:xfrm>
          <a:prstGeom prst="roundRect">
            <a:avLst>
              <a:gd name="adj" fmla="val 347"/>
            </a:avLst>
          </a:prstGeom>
          <a:solidFill>
            <a:srgbClr val="ff9966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5029200"/>
            <a:ext cx="639720" cy="457200"/>
          </a:xfrm>
          <a:prstGeom prst="roundRect">
            <a:avLst>
              <a:gd name="adj" fmla="val 347"/>
            </a:avLst>
          </a:prstGeom>
          <a:solidFill>
            <a:srgbClr val="ff9966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5121360"/>
            <a:ext cx="37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029200"/>
            <a:ext cx="639720" cy="457200"/>
          </a:xfrm>
          <a:prstGeom prst="roundRect">
            <a:avLst>
              <a:gd name="adj" fmla="val 347"/>
            </a:avLst>
          </a:prstGeom>
          <a:solidFill>
            <a:srgbClr val="ff9966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11720" y="5029200"/>
            <a:ext cx="639720" cy="457200"/>
          </a:xfrm>
          <a:prstGeom prst="roundRect">
            <a:avLst>
              <a:gd name="adj" fmla="val 347"/>
            </a:avLst>
          </a:prstGeom>
          <a:solidFill>
            <a:srgbClr val="ff9966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51440" y="5029200"/>
            <a:ext cx="639720" cy="457200"/>
          </a:xfrm>
          <a:prstGeom prst="roundRect">
            <a:avLst>
              <a:gd name="adj" fmla="val 347"/>
            </a:avLst>
          </a:prstGeom>
          <a:solidFill>
            <a:srgbClr val="7da647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46280" y="5121360"/>
            <a:ext cx="30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65" idx="3"/>
            <a:endCxn id="58" idx="2"/>
          </p:cNvCxnSpPr>
          <p:nvPr/>
        </p:nvCxnSpPr>
        <p:spPr>
          <a:xfrm flipV="1" rot="10800000">
            <a:off x="1234440" y="5257440"/>
            <a:ext cx="5258520" cy="229320"/>
          </a:xfrm>
          <a:prstGeom prst="bentConnector3">
            <a:avLst>
              <a:gd name="adj1" fmla="val 50000"/>
            </a:avLst>
          </a:prstGeom>
          <a:ln w="18360">
            <a:solidFill>
              <a:srgbClr val="808080"/>
            </a:solidFill>
            <a:round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xt frame: do 300 calculations again, 299 overlap with previous frame. Bit wastefu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ce we have 1 correct frame, next is cheap. So, first precalc 2 frames N and N-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 N, calc N-X-3 → N-(X/2-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 N-1, calc N-(X/2) → N-2. Frame N-2,N-3 are 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150 x CPU/GPU , needs 4 fullscreen textu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4572000"/>
            <a:ext cx="639720" cy="457200"/>
          </a:xfrm>
          <a:prstGeom prst="roundRect">
            <a:avLst>
              <a:gd name="adj" fmla="val 347"/>
            </a:avLst>
          </a:prstGeom>
          <a:solidFill>
            <a:srgbClr val="94bd5e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572000"/>
            <a:ext cx="639720" cy="457200"/>
          </a:xfrm>
          <a:prstGeom prst="roundRect">
            <a:avLst>
              <a:gd name="adj" fmla="val 347"/>
            </a:avLst>
          </a:prstGeom>
          <a:solidFill>
            <a:srgbClr val="ff9966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92560" y="4572000"/>
            <a:ext cx="639720" cy="457200"/>
          </a:xfrm>
          <a:prstGeom prst="roundRect">
            <a:avLst>
              <a:gd name="adj" fmla="val 347"/>
            </a:avLst>
          </a:prstGeom>
          <a:solidFill>
            <a:srgbClr val="ff9966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32280" y="4572000"/>
            <a:ext cx="639720" cy="457200"/>
          </a:xfrm>
          <a:prstGeom prst="roundRect">
            <a:avLst>
              <a:gd name="adj" fmla="val 347"/>
            </a:avLst>
          </a:prstGeom>
          <a:solidFill>
            <a:srgbClr val="ff9966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03880" y="4664160"/>
            <a:ext cx="37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61080" y="4572000"/>
            <a:ext cx="639720" cy="457200"/>
          </a:xfrm>
          <a:prstGeom prst="roundRect">
            <a:avLst>
              <a:gd name="adj" fmla="val 347"/>
            </a:avLst>
          </a:prstGeom>
          <a:solidFill>
            <a:srgbClr val="ff9966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4572000"/>
            <a:ext cx="639720" cy="457200"/>
          </a:xfrm>
          <a:prstGeom prst="roundRect">
            <a:avLst>
              <a:gd name="adj" fmla="val 347"/>
            </a:avLst>
          </a:prstGeom>
          <a:solidFill>
            <a:srgbClr val="ff9966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40520" y="4572000"/>
            <a:ext cx="639720" cy="457200"/>
          </a:xfrm>
          <a:prstGeom prst="roundRect">
            <a:avLst>
              <a:gd name="adj" fmla="val 347"/>
            </a:avLst>
          </a:prstGeom>
          <a:solidFill>
            <a:srgbClr val="ff9966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54120" y="4572000"/>
            <a:ext cx="639720" cy="457200"/>
          </a:xfrm>
          <a:prstGeom prst="roundRect">
            <a:avLst>
              <a:gd name="adj" fmla="val 347"/>
            </a:avLst>
          </a:prstGeom>
          <a:solidFill>
            <a:srgbClr val="94bd5e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61080" y="5211720"/>
            <a:ext cx="639720" cy="457200"/>
          </a:xfrm>
          <a:prstGeom prst="roundRect">
            <a:avLst>
              <a:gd name="adj" fmla="val 347"/>
            </a:avLst>
          </a:prstGeom>
          <a:solidFill>
            <a:srgbClr val="ff9966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11720"/>
            <a:ext cx="639720" cy="457200"/>
          </a:xfrm>
          <a:prstGeom prst="roundRect">
            <a:avLst>
              <a:gd name="adj" fmla="val 347"/>
            </a:avLst>
          </a:prstGeom>
          <a:solidFill>
            <a:srgbClr val="94bd5e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0520" y="5211720"/>
            <a:ext cx="639720" cy="457200"/>
          </a:xfrm>
          <a:prstGeom prst="roundRect">
            <a:avLst>
              <a:gd name="adj" fmla="val 347"/>
            </a:avLst>
          </a:prstGeom>
          <a:solidFill>
            <a:srgbClr val="94bd5e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5211720"/>
            <a:ext cx="639720" cy="457200"/>
          </a:xfrm>
          <a:prstGeom prst="roundRect">
            <a:avLst>
              <a:gd name="adj" fmla="val 347"/>
            </a:avLst>
          </a:prstGeom>
          <a:solidFill>
            <a:srgbClr val="ff9966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92560" y="5211720"/>
            <a:ext cx="639720" cy="457200"/>
          </a:xfrm>
          <a:prstGeom prst="roundRect">
            <a:avLst>
              <a:gd name="adj" fmla="val 347"/>
            </a:avLst>
          </a:prstGeom>
          <a:solidFill>
            <a:srgbClr val="ff9966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32280" y="5211720"/>
            <a:ext cx="639720" cy="457200"/>
          </a:xfrm>
          <a:prstGeom prst="roundRect">
            <a:avLst>
              <a:gd name="adj" fmla="val 347"/>
            </a:avLst>
          </a:prstGeom>
          <a:solidFill>
            <a:srgbClr val="ff9966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95960" y="5303880"/>
            <a:ext cx="372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44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x)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 not precalc 4 frames? Or 8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ical end: 3 blocks of X fra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ratch: starts from black screen, only final frame is val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ild: starts from Scratch frame, makes X valid fra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: old Build block, now being show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 reve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520" y="2925720"/>
            <a:ext cx="639720" cy="457200"/>
          </a:xfrm>
          <a:prstGeom prst="roundRect">
            <a:avLst>
              <a:gd name="adj" fmla="val 347"/>
            </a:avLst>
          </a:prstGeom>
          <a:solidFill>
            <a:srgbClr val="ff9966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2240" y="2925720"/>
            <a:ext cx="639720" cy="457200"/>
          </a:xfrm>
          <a:prstGeom prst="roundRect">
            <a:avLst>
              <a:gd name="adj" fmla="val 347"/>
            </a:avLst>
          </a:prstGeom>
          <a:solidFill>
            <a:srgbClr val="ff9966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20960" y="2925720"/>
            <a:ext cx="639720" cy="457200"/>
          </a:xfrm>
          <a:prstGeom prst="roundRect">
            <a:avLst>
              <a:gd name="adj" fmla="val 347"/>
            </a:avLst>
          </a:prstGeom>
          <a:solidFill>
            <a:srgbClr val="ff9966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60680" y="2925720"/>
            <a:ext cx="639720" cy="457200"/>
          </a:xfrm>
          <a:prstGeom prst="roundRect">
            <a:avLst>
              <a:gd name="adj" fmla="val 347"/>
            </a:avLst>
          </a:prstGeom>
          <a:solidFill>
            <a:srgbClr val="94bd5e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50160" y="2925720"/>
            <a:ext cx="639720" cy="457200"/>
          </a:xfrm>
          <a:prstGeom prst="roundRect">
            <a:avLst>
              <a:gd name="adj" fmla="val 347"/>
            </a:avLst>
          </a:prstGeom>
          <a:solidFill>
            <a:srgbClr val="94bd5e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89880" y="2925720"/>
            <a:ext cx="639720" cy="457200"/>
          </a:xfrm>
          <a:prstGeom prst="roundRect">
            <a:avLst>
              <a:gd name="adj" fmla="val 347"/>
            </a:avLst>
          </a:prstGeom>
          <a:solidFill>
            <a:srgbClr val="94bd5e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86800" y="2925720"/>
            <a:ext cx="639720" cy="457200"/>
          </a:xfrm>
          <a:prstGeom prst="roundRect">
            <a:avLst>
              <a:gd name="adj" fmla="val 347"/>
            </a:avLst>
          </a:prstGeom>
          <a:solidFill>
            <a:srgbClr val="94bd5e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326520" y="2925720"/>
            <a:ext cx="639720" cy="457200"/>
          </a:xfrm>
          <a:prstGeom prst="roundRect">
            <a:avLst>
              <a:gd name="adj" fmla="val 347"/>
            </a:avLst>
          </a:prstGeom>
          <a:solidFill>
            <a:srgbClr val="94bd5e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5440" y="2925720"/>
            <a:ext cx="639720" cy="457200"/>
          </a:xfrm>
          <a:prstGeom prst="roundRect">
            <a:avLst>
              <a:gd name="adj" fmla="val 347"/>
            </a:avLst>
          </a:prstGeom>
          <a:solidFill>
            <a:srgbClr val="94bd5e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2925720"/>
            <a:ext cx="639720" cy="457200"/>
          </a:xfrm>
          <a:prstGeom prst="roundRect">
            <a:avLst>
              <a:gd name="adj" fmla="val 347"/>
            </a:avLst>
          </a:prstGeom>
          <a:solidFill>
            <a:srgbClr val="94bd5e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03880" y="2925720"/>
            <a:ext cx="639720" cy="457200"/>
          </a:xfrm>
          <a:prstGeom prst="roundRect">
            <a:avLst>
              <a:gd name="adj" fmla="val 347"/>
            </a:avLst>
          </a:prstGeom>
          <a:solidFill>
            <a:srgbClr val="94bd5e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925720"/>
            <a:ext cx="639720" cy="457200"/>
          </a:xfrm>
          <a:prstGeom prst="roundRect">
            <a:avLst>
              <a:gd name="adj" fmla="val 347"/>
            </a:avLst>
          </a:prstGeom>
          <a:solidFill>
            <a:srgbClr val="94bd5e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9840" y="3017880"/>
            <a:ext cx="37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38760" y="3017880"/>
            <a:ext cx="37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3840" y="3017880"/>
            <a:ext cx="37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600200" y="2058480"/>
            <a:ext cx="182520" cy="3017880"/>
          </a:xfrm>
          <a:custGeom>
            <a:avLst/>
            <a:gdLst>
              <a:gd name="textAreaLeft" fmla="*/ 116640 w 182520"/>
              <a:gd name="textAreaRight" fmla="*/ 182880 w 182520"/>
              <a:gd name="textAreaTop" fmla="*/ 78480 h 3017880"/>
              <a:gd name="textAreaBottom" fmla="*/ 2939400 h 301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983120" y="2058480"/>
            <a:ext cx="182520" cy="3017880"/>
          </a:xfrm>
          <a:custGeom>
            <a:avLst/>
            <a:gdLst>
              <a:gd name="textAreaLeft" fmla="*/ 116640 w 182520"/>
              <a:gd name="textAreaRight" fmla="*/ 182880 w 182520"/>
              <a:gd name="textAreaTop" fmla="*/ 78480 h 3017880"/>
              <a:gd name="textAreaBottom" fmla="*/ 2939400 h 301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8367840" y="2058480"/>
            <a:ext cx="182520" cy="3017880"/>
          </a:xfrm>
          <a:custGeom>
            <a:avLst/>
            <a:gdLst>
              <a:gd name="textAreaLeft" fmla="*/ 116640 w 182520"/>
              <a:gd name="textAreaRight" fmla="*/ 182880 w 182520"/>
              <a:gd name="textAreaTop" fmla="*/ 78480 h 3017880"/>
              <a:gd name="textAreaBottom" fmla="*/ 2939400 h 301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03280" y="3747600"/>
            <a:ext cx="1440" cy="368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840120" y="3655800"/>
            <a:ext cx="1800" cy="368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9693360" y="3655800"/>
            <a:ext cx="1440" cy="368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9142200" y="3932280"/>
            <a:ext cx="3682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32280" y="3932280"/>
            <a:ext cx="3650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9720" y="4022640"/>
            <a:ext cx="36504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39840" y="3768840"/>
            <a:ext cx="955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08440" y="3840120"/>
            <a:ext cx="685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47080" y="3749760"/>
            <a:ext cx="745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mming it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5541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s only 2 x CPU/GPU power, but 900 tex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GB card, 1920 x 1200 R16F textures: only 319 :(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: only last frame of scratch block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nly 2 textures, pingpo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time X, 2X, 3X etc: Build empty, Show fu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time 2X-1, 3X-1 etc: Build full, Show emp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merged into single block → 302 textur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96920" y="5394240"/>
            <a:ext cx="639720" cy="457200"/>
          </a:xfrm>
          <a:prstGeom prst="roundRect">
            <a:avLst>
              <a:gd name="adj" fmla="val 347"/>
            </a:avLst>
          </a:prstGeom>
          <a:solidFill>
            <a:srgbClr val="ff9966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36640" y="5394240"/>
            <a:ext cx="639720" cy="457200"/>
          </a:xfrm>
          <a:prstGeom prst="roundRect">
            <a:avLst>
              <a:gd name="adj" fmla="val 347"/>
            </a:avLst>
          </a:prstGeom>
          <a:solidFill>
            <a:srgbClr val="ff9966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68920" y="5394240"/>
            <a:ext cx="639720" cy="457200"/>
          </a:xfrm>
          <a:prstGeom prst="roundRect">
            <a:avLst>
              <a:gd name="adj" fmla="val 347"/>
            </a:avLst>
          </a:prstGeom>
          <a:solidFill>
            <a:srgbClr val="94bd5e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08640" y="5394240"/>
            <a:ext cx="639720" cy="457200"/>
          </a:xfrm>
          <a:prstGeom prst="roundRect">
            <a:avLst>
              <a:gd name="adj" fmla="val 347"/>
            </a:avLst>
          </a:prstGeom>
          <a:solidFill>
            <a:srgbClr val="94bd5e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07360" y="5394240"/>
            <a:ext cx="639720" cy="457200"/>
          </a:xfrm>
          <a:prstGeom prst="roundRect">
            <a:avLst>
              <a:gd name="adj" fmla="val 347"/>
            </a:avLst>
          </a:prstGeom>
          <a:solidFill>
            <a:srgbClr val="94bd5e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47080" y="5394240"/>
            <a:ext cx="639720" cy="457200"/>
          </a:xfrm>
          <a:prstGeom prst="roundRect">
            <a:avLst>
              <a:gd name="adj" fmla="val 347"/>
            </a:avLst>
          </a:prstGeom>
          <a:solidFill>
            <a:srgbClr val="94bd5e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82920" y="5394240"/>
            <a:ext cx="639720" cy="457200"/>
          </a:xfrm>
          <a:prstGeom prst="roundRect">
            <a:avLst>
              <a:gd name="adj" fmla="val 347"/>
            </a:avLst>
          </a:prstGeom>
          <a:solidFill>
            <a:srgbClr val="94bd5e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32280" y="5394240"/>
            <a:ext cx="639720" cy="457200"/>
          </a:xfrm>
          <a:prstGeom prst="roundRect">
            <a:avLst>
              <a:gd name="adj" fmla="val 347"/>
            </a:avLst>
          </a:prstGeom>
          <a:solidFill>
            <a:srgbClr val="94bd5e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5394240"/>
            <a:ext cx="639720" cy="457200"/>
          </a:xfrm>
          <a:prstGeom prst="roundRect">
            <a:avLst>
              <a:gd name="adj" fmla="val 347"/>
            </a:avLst>
          </a:prstGeom>
          <a:solidFill>
            <a:srgbClr val="94bd5e"/>
          </a:solidFill>
          <a:ln w="18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6984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56240" y="5486400"/>
            <a:ext cx="37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34040" y="5486400"/>
            <a:ext cx="37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1645200" y="5305680"/>
            <a:ext cx="182520" cy="1279440"/>
          </a:xfrm>
          <a:custGeom>
            <a:avLst/>
            <a:gdLst>
              <a:gd name="textAreaLeft" fmla="*/ 116640 w 182520"/>
              <a:gd name="textAreaRight" fmla="*/ 182880 w 18252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4754520" y="4482720"/>
            <a:ext cx="182520" cy="2925720"/>
          </a:xfrm>
          <a:custGeom>
            <a:avLst/>
            <a:gdLst>
              <a:gd name="textAreaLeft" fmla="*/ 116640 w 182520"/>
              <a:gd name="textAreaRight" fmla="*/ 182880 w 182520"/>
              <a:gd name="textAreaTop" fmla="*/ 75960 h 2925720"/>
              <a:gd name="textAreaBottom" fmla="*/ 2849760 h 29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406280" y="4756320"/>
            <a:ext cx="182520" cy="2378160"/>
          </a:xfrm>
          <a:custGeom>
            <a:avLst/>
            <a:gdLst>
              <a:gd name="textAreaLeft" fmla="*/ 116640 w 182520"/>
              <a:gd name="textAreaRight" fmla="*/ 182880 w 182520"/>
              <a:gd name="textAreaTop" fmla="*/ 61920 h 2378160"/>
              <a:gd name="textAreaBottom" fmla="*/ 2316240 h 237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39840" y="6054840"/>
            <a:ext cx="955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79840" y="6126120"/>
            <a:ext cx="746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76960" y="6126120"/>
            <a:ext cx="685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035760" y="6033600"/>
            <a:ext cx="1440" cy="368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576400" y="6308640"/>
            <a:ext cx="36828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675480" y="6033600"/>
            <a:ext cx="1440" cy="368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307200" y="6308640"/>
            <a:ext cx="27792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277640" y="6492960"/>
            <a:ext cx="4604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54120" y="6492960"/>
            <a:ext cx="549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475080" y="6399000"/>
            <a:ext cx="1440" cy="368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5440" y="6675480"/>
            <a:ext cx="3650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14800" y="6399000"/>
            <a:ext cx="1440" cy="368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06960" y="6675480"/>
            <a:ext cx="3650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 with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for al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-liv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, water, blur, motion bl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le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ly mo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or effects that keep info (close to)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ways game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ids (bird flock mo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id dynamics with 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5T23:14:26Z</dcterms:created>
  <dc:creator/>
  <dc:description/>
  <dc:language>en-US</dc:language>
  <cp:lastModifiedBy/>
  <dcterms:modified xsi:type="dcterms:W3CDTF">2014-04-20T12:28:46Z</dcterms:modified>
  <cp:revision>20</cp:revision>
  <dc:subject/>
  <dc:title/>
</cp:coreProperties>
</file>